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7D3-98A7-4086-9B34-F00DFF80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75A-7B96-4D6D-B616-409EC23F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890-963D-4044-AF53-C808D90D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DAA-F7C6-4925-8A28-E74F92BD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66AA-1E69-4FCD-85FC-8512230B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2C2A-3955-49F9-95B9-D2781576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8A83-08BD-4681-B55B-89E93B62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6C79-DD28-444C-ACE7-CE483BB7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FD1A-628A-4CCD-BF42-FA68F417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F689-A15A-4D32-82B9-09063340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738C-24B8-4B09-99EC-B2D1B256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536-54C1-47DF-BE78-C899573C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4F92-0B59-4E6F-B303-10F1BBA0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51EB-8264-44E3-A0F6-9E80CEA4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EAA3-F101-45F7-A44F-9EAC22DF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A5FC-2F4C-43AA-8D06-E6985747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5BC5-BFD2-41BC-B5BD-DB362EB1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1AE-4806-4A5B-96E3-EC7C8A27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44C6-F71C-4FE7-9FE8-26188A61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B64-9DDF-4070-8493-2BE7AAB9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E79C-5632-4FA1-AC45-986F0963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EE4-8D4B-4D32-BAAF-560014BE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4DA-3F22-4A21-9822-F7727B91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E34-328E-463E-BD88-B07D937B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ACFA-AC8E-4430-8E4B-6442EE0A871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4C32-F391-4ECD-ACAD-C09E68DC04F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36000" y="5589720"/>
            <a:ext cx="172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7-ZIP </a:t>
            </a:r>
            <a:r>
              <a:rPr b="0" lang="zh-TW" sz="20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教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02240" y="60930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Notepad++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48680" y="3292560"/>
            <a:ext cx="164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文化大學資管系碩士學分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42760" y="3782160"/>
            <a:ext cx="23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數位教材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(Freeware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36960" y="4522680"/>
            <a:ext cx="12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指導老師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鄒景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36960" y="4954680"/>
            <a:ext cx="12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學生姓名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劉正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183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7-ZIP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安裝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5589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回目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6056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下一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38400" y="1295280"/>
            <a:ext cx="6667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183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7-ZIP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使用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6000" y="5589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回目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38400" y="1295280"/>
            <a:ext cx="6667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22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Notepad++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安裝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5589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回目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6000" y="6056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下一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38400" y="1295280"/>
            <a:ext cx="6667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22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Notepad++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使用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5589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回目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38400" y="1295280"/>
            <a:ext cx="6667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02:31:19Z</dcterms:created>
  <dc:creator>DAXIONG</dc:creator>
  <dc:description/>
  <dc:language>en-US</dc:language>
  <cp:lastModifiedBy>DAXIONG</cp:lastModifiedBy>
  <dcterms:modified xsi:type="dcterms:W3CDTF">2011-01-22T03:21:54Z</dcterms:modified>
  <cp:revision>11</cp:revision>
  <dc:subject/>
  <dc:title>投影片 1</dc:title>
</cp:coreProperties>
</file>